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4.xml" ContentType="application/vnd.openxmlformats-officedocument.theme+xml"/>
  <Override PartName="/ppt/theme/theme62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</p:sldMasterIdLst>
  <p:notesMasterIdLst>
    <p:notesMasterId r:id="rId75"/>
  </p:notesMasterIdLst>
  <p:sldIdLst>
    <p:sldId id="256" r:id="rId76"/>
    <p:sldId id="257" r:id="rId77"/>
    <p:sldId id="258" r:id="rId78"/>
    <p:sldId id="259" r:id="rId79"/>
    <p:sldId id="260" r:id="rId80"/>
    <p:sldId id="261" r:id="rId81"/>
    <p:sldId id="262" r:id="rId82"/>
    <p:sldId id="263" r:id="rId83"/>
    <p:sldId id="264" r:id="rId84"/>
    <p:sldId id="265" r:id="rId85"/>
    <p:sldId id="266" r:id="rId86"/>
    <p:sldId id="267" r:id="rId87"/>
    <p:sldId id="268" r:id="rId88"/>
    <p:sldId id="269" r:id="rId89"/>
    <p:sldId id="270" r:id="rId90"/>
    <p:sldId id="271" r:id="rId91"/>
    <p:sldId id="272" r:id="rId92"/>
    <p:sldId id="273" r:id="rId93"/>
    <p:sldId id="274" r:id="rId94"/>
    <p:sldId id="275" r:id="rId95"/>
    <p:sldId id="276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notesMaster" Target="notesMasters/notesMaster1.xml"/><Relationship Id="rId76" Type="http://schemas.openxmlformats.org/officeDocument/2006/relationships/slide" Target="slides/slide1.xml"/><Relationship Id="rId77" Type="http://schemas.openxmlformats.org/officeDocument/2006/relationships/slide" Target="slides/slide2.xml"/><Relationship Id="rId78" Type="http://schemas.openxmlformats.org/officeDocument/2006/relationships/slide" Target="slides/slide3.xml"/><Relationship Id="rId79" Type="http://schemas.openxmlformats.org/officeDocument/2006/relationships/slide" Target="slides/slide4.xml"/><Relationship Id="rId80" Type="http://schemas.openxmlformats.org/officeDocument/2006/relationships/slide" Target="slides/slide5.xml"/><Relationship Id="rId81" Type="http://schemas.openxmlformats.org/officeDocument/2006/relationships/slide" Target="slides/slide6.xml"/><Relationship Id="rId82" Type="http://schemas.openxmlformats.org/officeDocument/2006/relationships/slide" Target="slides/slide7.xml"/><Relationship Id="rId83" Type="http://schemas.openxmlformats.org/officeDocument/2006/relationships/slide" Target="slides/slide8.xml"/><Relationship Id="rId84" Type="http://schemas.openxmlformats.org/officeDocument/2006/relationships/slide" Target="slides/slide9.xml"/><Relationship Id="rId85" Type="http://schemas.openxmlformats.org/officeDocument/2006/relationships/slide" Target="slides/slide10.xml"/><Relationship Id="rId86" Type="http://schemas.openxmlformats.org/officeDocument/2006/relationships/slide" Target="slides/slide11.xml"/><Relationship Id="rId87" Type="http://schemas.openxmlformats.org/officeDocument/2006/relationships/slide" Target="slides/slide12.xml"/><Relationship Id="rId88" Type="http://schemas.openxmlformats.org/officeDocument/2006/relationships/slide" Target="slides/slide13.xml"/><Relationship Id="rId89" Type="http://schemas.openxmlformats.org/officeDocument/2006/relationships/slide" Target="slides/slide14.xml"/><Relationship Id="rId90" Type="http://schemas.openxmlformats.org/officeDocument/2006/relationships/slide" Target="slides/slide15.xml"/><Relationship Id="rId91" Type="http://schemas.openxmlformats.org/officeDocument/2006/relationships/slide" Target="slides/slide16.xml"/><Relationship Id="rId92" Type="http://schemas.openxmlformats.org/officeDocument/2006/relationships/slide" Target="slides/slide17.xml"/><Relationship Id="rId93" Type="http://schemas.openxmlformats.org/officeDocument/2006/relationships/slide" Target="slides/slide18.xml"/><Relationship Id="rId94" Type="http://schemas.openxmlformats.org/officeDocument/2006/relationships/slide" Target="slides/slide19.xml"/><Relationship Id="rId95" Type="http://schemas.openxmlformats.org/officeDocument/2006/relationships/slide" Target="slides/slide20.xml"/><Relationship Id="rId96" Type="http://schemas.openxmlformats.org/officeDocument/2006/relationships/slide" Target="slides/slide21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 type="dt" idx="2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 type="ftr" idx="2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6"/>
          <p:cNvSpPr>
            <a:spLocks noGrp="1"/>
          </p:cNvSpPr>
          <p:nvPr>
            <p:ph type="sldNum" idx="2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6B76-1318-4105-BDC6-8463E1643F4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Ε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C60-14FB-47F3-8CF3-9BEECB44966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A501-F000-47FE-9CCD-166C53CCFD5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ldImg"/>
          </p:nvPr>
        </p:nvSpPr>
        <p:spPr>
          <a:xfrm>
            <a:off x="1101600" y="1241280"/>
            <a:ext cx="4467240" cy="3351240"/>
          </a:xfrm>
          <a:prstGeom prst="rect">
            <a:avLst/>
          </a:prstGeom>
          <a:ln w="0">
            <a:noFill/>
          </a:ln>
        </p:spPr>
      </p:sp>
      <p:sp>
        <p:nvSpPr>
          <p:cNvPr id="3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742F-062E-49F5-88BA-A23D4F41516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6E02-C8C1-4ED5-878C-E393B25B206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692-8D6A-490F-98A3-5C1AB650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1AC-4126-4E4D-BE92-BD916AA3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9B787-28CC-4C41-BD57-FD282F1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D471A-8FD9-4C32-A963-648F9DA5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72649-356F-4BAF-A0E6-2FB9944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D2108-CB15-4153-B03F-CF6B2F7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2D1C3-6E14-4501-9529-05580EA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54CB8-45E9-4ABA-AB58-5B4D190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C6247-7831-4A3A-B0F2-EEDE331A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E02B7-8A15-4157-B2EC-5E07F03C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268A-EFA4-41AF-A1F9-C7AC827D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560F-0CFA-4E00-92ED-0ECA0910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9D4-F739-4983-9FF7-40909D4C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C15F8-F366-45BE-952D-59857611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CDC98-AC49-473B-860B-D8643C69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C8F33-2AFF-4290-B1DF-050F78E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DE29-A6D1-41E3-947B-1C21BA7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D430E-27C0-4F84-90D8-0701EAC8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DBA76-DD55-4C64-BE92-4E37326D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1E88C-CB26-4511-8B5E-1688AF54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5DDC5-F45C-427E-BED8-8C53EC4D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5A6F5-B86E-4253-86FA-E3A1691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DE7BA-C124-4972-84B5-DAF94FBA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BD8-CF3E-4160-B336-6D82752F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F91CA-4869-49D1-993D-2DD9267A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D8089-DC0C-4E62-A366-3D0C814E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E1CD4-B4C9-4FE6-B905-AA135061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87F74-C58F-4F39-9D19-E385CC06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05A79-9E8D-4A71-8DFD-FC1B02C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5C491-E691-4218-8A52-C01B96BD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AC3AA-A1B0-445D-B9A6-FC4065C5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6DDC-3C25-468E-B191-586EAE8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78FD-7F93-48BA-9CB5-CF4AF74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C11D8-F6A3-438A-BBCA-B1C36AF2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294-335D-4A94-9E53-2717D0FF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67D98-B2FB-4362-AD1F-C4128D89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29A97-FB58-4FCF-B432-90FA951B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AF1D-C69D-4758-B050-91703A71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91565-DB53-497E-8740-0410AD44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C1419-735E-4EFE-BE86-57527AD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DE466-6DDB-452E-A8E4-04CB6DB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ABDB0-B8F1-4EC2-9C3B-76E7D93D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0DC31-8880-40E9-8923-6342772C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8A3AC-062F-47D9-8334-D657598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9CBFC-2F9A-4BDD-838A-DF90163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4630-1107-4FE1-8A2A-E1051489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163CA-AC2D-4C0E-B60B-01D133F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9F1C4-12FD-4993-BBD8-A209C11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D4351-F884-4445-B564-C7277444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3D2BF-EE33-4871-AA60-720B990E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AF36-FF41-41CC-902E-4EFF215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E222A6-04FA-49D4-B46C-AC2D5B3C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60CA5B-C465-44A5-B2F5-A57A3AAF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15CF37-DFAE-4AF1-BFF6-0B217BB0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6A7CA7-1E26-4BD2-88D7-E130C97E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A04C4A-F938-49E9-8887-B3D87955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4D40-7F94-4056-AF5F-B8596039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CEED23-B20C-4162-B27A-E8B7256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9BE7BB-527B-4D74-833F-62714162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2C6D38-6985-4706-BA28-F59C9854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17961B-85B5-4B0C-B668-F7E715A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54E53B-43DB-44DC-BDFF-1CCEA6A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24FF86-9A08-465D-BCC3-00E818B5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E45B81-8538-48D6-B20A-587E2B74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4CC9B-A326-458C-BDC1-6BC14E1F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FA22C-D2C2-4923-8270-0798148A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0A094-7F64-415C-BF7C-B80809CB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3E05-9A2F-4151-8D13-A3209E1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928B1-09E8-4153-B18E-A977518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274CC-34B1-4FE7-99AF-BA69966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B1C04E-5862-4267-9706-E03B09B7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4AB6D-A4DF-43B3-A447-2FCB7BF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20438-F75D-445C-B24F-75E03A8D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63250D-7F1B-49CF-915A-D7D3773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CB25D8-29FD-414F-92EF-B86DAD7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0FE27-E319-47E4-A130-04024242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AD9A4-DAFE-4091-B72F-1EE8B7CF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402C6-9172-422C-B0CD-A590C9AB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DC5-3A7F-4BCF-9567-B7483317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75EB0-847A-4E07-928E-000F1BC1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EE481-2C07-43F9-B504-FE4DA7E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3C930-06CC-4056-B42F-1071748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7ABDE-3FA7-4CD7-934E-EDEE855C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94F5C-F7B9-4216-81D2-10FE7C39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EC7EB-AC5D-4926-95B2-99CC9FB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CB4EE-AD3E-4503-A706-16A02F16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991B5-67C3-4E0D-BFF5-CF96A0F3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2D09E-29EF-41CA-9970-D7BFADC0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B3677-721F-41D9-B685-18705042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5A77-9C10-44FE-A05C-6E294CE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5A8C5-AD49-4EC5-98C8-99AD8C1A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B80EF-0DE0-41A1-8D85-CB932336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CCCB1-C403-4A77-A61F-DA93EE3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136B0-06AB-43FE-A37E-F75358DF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86A60C-B173-4948-B372-8E877492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DA3915-7CEB-49A6-AD47-C029F27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73AE6-7F2C-4343-828B-BA7C98D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3DB88-DCB1-4EC7-82C0-E9E5A7B1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D2412-2FCA-47B2-91B4-A5F688F8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4D7A5-A160-4BAE-8AEC-7267058E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E700-0FF7-46AA-B2BD-D335605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F28CC-5E35-442C-B075-A52E0DF1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F32E9-4BB0-4DA6-8357-9FE7B6C6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DFEBB-BFA6-4D57-88BC-8E029221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AF9937-D9A7-4D42-91E2-ABC1770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4ED51-0EB4-4FE2-899B-4D9FCFFA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4C057-21BB-4641-B133-B1E56236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8AC9C-CCD3-4D82-BD4D-BEE8CCDE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23AB5-2C6A-4BEF-A0A9-DEC4F17E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3DD732-63F7-4770-BBBD-AB289298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ED5CF-CE19-45D6-AF36-7B588A9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7A9-A509-4CED-8528-F30CD797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B684-4821-42B3-A4DB-D21A7FDC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BD12E-5125-48AF-99BB-1376257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116B5-B1EF-47B5-BA3E-12F4A7B8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95A52-A499-45CF-B2CF-23E023F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7F7A2-40A6-4555-85B0-D4255A07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2E067-6576-4219-A864-D9DADA0C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DFEB3-DBEC-4F16-A73A-B97F5080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AB6EA-3604-4A68-85FE-3F461ACA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B9F66-DFAF-4A24-B3E6-B65F5F6D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C8AC63-7995-40F9-BCD0-ABC91B5D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4CD38-415F-467F-A729-6DA2FE13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8AD6-04ED-4EBB-A88A-C9E64AD6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C5766-9467-4853-AAC8-32143B3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1439CE-D8F1-4A5F-BC1D-181B270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4FF61-393F-4313-B93B-88A4A43A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A3675-7CF3-4FD1-8CDD-21C0E0B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02A4E-CBB5-453C-828A-1863995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5870B-9EA7-4B65-AF29-25B4E418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C00786-8961-4823-93D1-45627744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5874C-87E9-4FEE-A1FA-1BE0EB4F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69190-8F9F-43A5-9314-1EF981B7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FFCDEC-DBE0-4964-A02E-160D6158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F623-EA92-4874-AD2A-AAD9BBF9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C9BAEE-6523-4A97-A33B-0F99E14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09C59D-32F4-4A43-B47F-04A4A7DF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FFFCBA-071E-4DDE-BF55-50F8A77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7FAB4-02B9-483E-8F78-22642906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8367B-3019-45E3-B019-192794C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F0674-92CA-4ABA-8926-F5CFF08B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885E54-326A-4CDF-9A69-BCDB455B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8F26C-CDD3-471A-8374-2B8A345B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FEB1A-3F54-494F-B23D-E4FAB4BB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8596AC-D703-44E1-A2B9-97EEE527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08A6-0BA7-44DF-ACF5-3BCFBC92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AA410-DEBF-4EE4-87CA-4EF9654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6EE983-DE77-41AF-85F4-670CC15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3112CF-47E8-4EDF-8F61-A78A7D9B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D47D7-6A4A-4F3F-8F49-C28F96E8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C552E-AEFB-4FC0-8E29-78AB6792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8A03A-526C-412E-AE76-64938A90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657E8-3BD0-4E73-AA0E-3A708CA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92F12-E607-4AB7-AA42-A70FD25F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124F6-9CC2-414A-82DC-0461426B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3D42B-8E70-4D3D-B9FD-E8C986F6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6A44-CEFA-437A-8DE9-64F19C90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5FFBA-FE52-4118-BDBB-110A31D4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71286-E52C-4B45-9564-38C5258C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376AD9-8179-461C-AEBC-C89F52C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5AEA7-21D5-4874-A610-09801CB7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5DC14-5A45-41CD-88EE-CDDB7ED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3749D-EDEF-4ACD-B08B-DB44FEB9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B2C137-7925-453B-8892-6FD68B7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BD51B-409B-4A92-8021-2356370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7B2659-6EEC-4358-9B43-7E2C0D9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85282E-7214-45A7-AF1A-EDDCBD53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31CD2-2F12-4AAA-8F5D-7C3E1585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6630F-9586-4060-A8AD-7AF68B3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61AE3-CFCF-4906-9E7C-D1708B24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2D1FF-8F6B-4DD0-AA5F-0DE03C62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4CA11-D946-428E-A492-783EC2F0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D36BF-581D-468B-8F31-76906684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06B9BD-ADFC-4EC0-A1A3-2C28456C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EC9A0C-A6A4-422C-83A1-9EE429E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0B2F9B-F957-41CF-AA52-8DB24AB5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3845D7-4C2D-4439-81C3-B2AEC01B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E63EDB-AF16-4BD7-995C-E14869B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D03F6-6CE0-48E1-8C78-4DAE0E9F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AF1EC8-7E47-4D69-A0E8-F8BD496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95908F-C790-4815-9305-E2E691E9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B79A08-AFEA-43AC-BB55-70598D15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CFC4BB-EE94-45C9-98F8-6197E078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48D53-672C-4A8D-9134-B88C566E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E1410-48AA-4D4D-BB43-47BEAD94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89C099-F8B0-44F2-BB6C-519C300C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6C2810-2A28-4F56-8B98-502D2551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45B066-B895-406F-9109-1778F7F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E3491-DBDD-4B3A-8353-695B8C07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9D764-E84B-4D3A-854D-BFA9042F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2D4AFA-32AB-4CB1-A2E0-2DBA412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8CED2F-BE66-4069-9F4E-340B5872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F0CA9-FE39-413A-9E4C-5FB58E61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8FBD5-08E6-44E7-8950-CECC1E2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49349-D94D-40C9-BB38-E12D4B2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BACCE3-25D5-490C-BB70-3FF52040F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B1A6CB-F817-40B7-B50E-C61BB79E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4FC9A0B-BFF3-45F8-93AD-7E8A5390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CC445A4-0347-480E-AC37-4FD9F87B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CC6B8C-C17C-46B8-A1D9-5DEAC087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BA33-6AEF-4835-91CC-6D4066A2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E3AD44-87A2-4553-A520-67DAEE6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49F0D74-9385-46C6-BED7-91E891D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BE77CD-6433-40CA-BAC6-712860F5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EEEF164-5302-4A60-863C-9D94B0A4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3BF9AE3-2AB4-4C69-B106-53C66B0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6475556-1D86-4895-A371-41CBAE8C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E99F83-FEA5-4A73-93B0-5DA9AFC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B576404-B3CE-4611-8B47-63DC1126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9039D40-69D9-4C66-9C53-C50B22C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08B1F1-0249-4647-A758-094D996A1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3277-24CE-4DB0-B3C5-4B93340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1EB1F2-C122-4967-B1D1-214E250A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062FAE-9740-4C55-BA3A-B55C792C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39CDFD-FA91-48CF-BF33-30B0F8B8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474D3D-E5C1-4F7E-9707-16358D92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BA9CA5-B16D-4F24-AF5B-4995F825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63FB12-CC4C-4D56-BC6A-BA04A2C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E506E-67AB-4994-8F2F-13BA91AF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65D67-69F4-4353-82B3-239658C2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3FD603-FB6A-49EF-881E-FCE9CFD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C4181B-3022-4149-AC3A-CA21107B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B95-A48F-4443-9CD3-D5A9330B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E8F8-87A3-4504-BD8E-8553181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565660-B79C-4862-9581-3580B81F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A8197C-9F16-48E8-B8F5-A846C440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B28548-F73B-44C3-9083-BC509A8A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EB9BC3-64D1-4ACB-878D-87E1444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BCFC33-F2EF-44AB-8256-06012AA7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F354D3-486E-4575-9205-F6E1F00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0C3DCD-E75B-48BE-A75C-78868D66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60FA19-12D1-4BD2-BF3B-93356CB0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AD5557B-6A26-4D3C-835D-A21FA49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EB678E-6008-4E37-9324-3590133D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00C83-3151-4670-980D-E1717C09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79187B-1423-43AA-8104-23C27E6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C94E0E-D2AA-4EB0-868A-9CB95862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AA513F-AC48-4250-8FFD-5F760F5A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1EFAEA-885F-4DBF-B1B8-88B88257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1490E3-F681-4519-932B-714B268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80662A-8C84-4E7F-B131-E5684C87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AA9A05-8DF9-4BAA-8162-0DB40FAD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44266B-7417-478D-AF94-2A682577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9D6D4-380C-4943-8BC8-6EDEC6F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2972C2-F085-44B2-8FE0-BD72315C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4CDF0-787F-4AAF-B02D-12AAC683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D051E3-EBF8-408B-A081-DE9EDD3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149677-F1F7-409D-B4A8-97C5E5D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595F76-6251-4D03-A3B0-A22519F4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33F660-26D6-46F8-B2DA-EF9ABB54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07C9A6-8894-4267-996A-C4845EB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A9B690-5E61-40DC-8BA9-4C77B308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BBB5A8-A8F5-42E8-9FD8-F1FA05D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9A8A79-B711-41C0-9332-94AC7F20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49C220-5235-4FF7-8C53-2C46E088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E8A996-FF78-436F-B1BC-09C0EB85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A7D7-2C6B-459A-93CA-4AD92E3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7D9E73-E86E-4E51-B116-0AB17C22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15022C-C3EA-4413-9D95-F0588893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6A47E-91AA-49E5-88BE-1B42088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27C312-11CD-44B3-A90B-1D1104D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481DB4-A956-4008-8309-4099CED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96D4D-F298-4A40-B258-A711FB99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ADD5EE-430B-4B64-A2C4-BCED2BA7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3230AF-E789-4D9D-A0B1-31EB2B2B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5A74B8-C27A-43A2-8993-91313556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25238F-5A4A-4A2F-815F-FDFB48EB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5708-C81B-4B95-9697-782F219D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5116AC-19E3-4083-9198-2891BB08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A7728E-D831-4732-B591-306F173F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3348E4-A740-4DCE-B2A3-293A386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6CAF01-8793-4251-A9E5-DF08D45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9F2AF7-99A5-48C0-81CF-55DC564F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B61C8F-DD8C-4C92-8AE7-98AF23BB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0B05CE-AB2A-491B-ACD8-86857560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711388-7F88-4BAD-A26B-31D82C09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A12A83-9B5A-44CE-BAEF-17E6998B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AC2025-7965-495A-837C-6E09AA1E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F31E-9BAD-42E0-825D-55B564A0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2CABB3-1736-4AB0-92B5-47B5615F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9A5E69-72F3-4E83-97B2-734E6FE9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03CC37-4B25-4BCF-803F-E64F833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60F6BA-CB2B-4442-802A-BA61EB4F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3ECF4-6848-4954-9CF2-3C734B1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CE7F98-230F-4E87-85FA-6F0BBC73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A91388-A180-4430-BC04-6A10619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B1AE66-6D0D-4397-9B84-D4D47EA8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5947B3-5B27-469D-853F-18B7E970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58E6AC-A633-4AC5-9911-6EC139DD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686F8-A969-4423-9339-C89812AE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5D4FBA-F461-42A6-A5B9-8B28BB3A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192B23-47FB-4F10-A594-E5B2A6DA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BAC826-D98C-4447-B797-8BD6664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69371B-08ED-498C-8031-EB69AA1D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56972F-6819-40C5-B577-238B20D4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9F2C58-5365-4C26-B946-40A95277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39CE00-4450-42A4-A7F5-4E89999A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3FC53A-D24E-4158-B6FC-5008959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312600-EFC8-47D5-BBDD-33D890B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7D8286-02FB-4732-8CC4-8B1ED0AA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7053-1D98-4C52-952E-8B6E94D8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B01402-485C-4B0D-9D92-5AC11A9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A3C0E2-5C68-4CB5-966E-DD446252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214130-94B7-48C2-9821-DF3E87A6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2248EE-82A0-4A99-AC81-E6434C48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F267F7-644A-4C89-9EC1-2016A2C6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F63AB5-E20D-4099-BD52-CCF48C2F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9D4EB5-4418-4904-8DEC-55D26C98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B413B5-DA41-4BCB-BBFA-D500B721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9BF6CE-8634-46F9-9A15-FF776E29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DE7C27-19CD-4A23-9D9C-54F8EA6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1D2B-AD03-4A81-844C-0EB66FA0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F4005E-2BBC-47FD-8134-C34DEB3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D9863A-5F86-4B9D-8CEF-C906AF9C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F185EE-E798-4EC7-B514-D70604C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505826-412B-4D92-B881-95C24ABD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8B06C1-E1A1-4BCD-8D5B-71E435E6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2EF039-F880-4C14-AF5E-E72E28E2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1BAE96-0411-4161-B230-3DB8C1AC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599B47-CAD9-4076-A58F-98DF977A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8B0489-05CB-4F11-9441-E54E450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2EB4E7-95FF-44B0-BCDB-6343043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34FC-501A-4F2A-980E-11D5E48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231190-734B-42B8-A837-A808D63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EB58C7B-38CF-4CEC-A29F-3985B33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70EF7C-C824-4EE3-9309-FB8C866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19F36B-A1A3-4476-8A58-8B5F9D4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0AF83A-AE98-4572-8243-425ED8A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1F6602-8224-472A-923D-C49E77C7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333852-9FCB-4DE4-A7DE-BC41DE0A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EF5440D-14DB-4180-A564-9DBA1AF6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781375-3450-4E61-B434-0C3CDC9B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8A8734-A62F-44BA-9BA4-584E1F17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D90-8765-4BC3-BC2A-8CB8011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1C32-1EB4-4509-A417-0D675F31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917116-3AF8-460F-8DCC-B2877F54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8EFCEB-F21A-4C33-8175-9C8CA2BC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8832A3-5760-4B48-A94E-489B6907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E1E863-E94C-4CA8-BCB2-438A38D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DF83452-1953-4490-85B2-1D10DFD9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195109-B8DD-4494-B559-F822E44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0CD587-C1CF-44B5-9AB6-69E62419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D6C997-2783-43C4-9D8C-3EAD1AA7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3E96A0-76C4-4150-9599-55D21CEA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F208DBA-08AF-4290-97F5-23EF9512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2B97-512B-480A-A18A-45240745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976A69-C252-4B97-A0F1-1BBAF04C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6305B93-EDD2-4766-8815-33EA5E47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50D470-F922-4E7C-B309-96983F07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32B804-C396-4B37-A728-175913E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647366-BAD8-414B-8657-B3AACDFA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ED1C4F-F352-4955-96A9-2B85A08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F596BD-CAAE-46AB-9ED2-41CCC09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E51F11-002F-4424-9DAE-0F65BD2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CBA5CB-37D9-42BB-B579-B4F3988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B9B87C-1497-4E2B-8BDF-B2A0BC48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D8CF5-B538-491F-A2F1-0AA68BC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FE0B41-D50D-4939-A8D8-3F981FFD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F65D14-41F7-4A0A-B07E-F5D10F26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957DA4-33F7-446A-B0AB-E4C2F5B1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A4DFC2-A505-40BA-BCF0-CF504D1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C1960C-9165-48C4-B937-5A1940B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A2AD2D-3785-4CAA-AE21-6C5CCCD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E929B1-D42B-421E-A48C-EAA454B3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10A911-C5C8-4276-973C-1B3AEE0D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E5B874-11EE-41D8-8363-6CEB510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291840-B75C-4CC0-9202-A51681DE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BC3E-DF3E-49B1-B8B3-CA4DDA5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0597C8-6F0A-4F45-B9E5-9B72C6FD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4B2DFE-C253-4AD0-BF71-82957731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BC061B-50F3-46FC-98B5-64D8E4E6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CC6621-2412-46C6-88DE-C5180404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96D01E-4F1F-445F-9A41-785FF801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517806-EF55-4266-8013-84029C66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CA10E5-615A-45F7-92B1-69B7169B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5D9263-AD38-4864-A53A-89A729E2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2B256E-F5D4-4545-AE94-A251F286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89557DA-F8F5-40E5-83C3-B45D996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4A3B-7564-4953-AC84-36957FC0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287BD2-CAEC-45BC-92B3-81BAB50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1B5592-9E2F-48E5-A00B-C65171E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282D98-EA79-4143-9230-F7C4F995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C4750C-8817-4FE5-8B59-6F74BA0E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150003-1E04-4B41-9816-56BE1EE4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09AD93-D998-447C-B202-6D2412E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816573-3310-47E1-865E-6C653A2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3CDAEC-D07A-4A0E-9DEC-D021386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CF94E8D-C295-46AD-AB21-122DAA74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CB1524-C1B3-4159-BBB3-1E2FAB5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389F-D634-4DD1-9E39-1F4363D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A3B9E0-CDFF-4EF5-B680-42DDDD4C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1D132C-DFCF-42EB-99B8-2AF9466E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66FC865-6550-48DA-8BA8-725DFEAA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BDFF05-CE13-4FAA-89F8-13A3198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F44F48-09CF-4E7F-8BD1-84C02B9B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3B20F2-7FC4-4BCB-8DA4-3463373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9157E7-B862-4ACF-AB53-8128A939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114287-AA41-4C95-9705-D6E094A2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080F23D-68BF-436F-B09E-967033BB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7D3F2A-84B8-4FAB-B143-305CEB70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3D74D-7581-4441-BEF0-794F31C0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77EA8B-5E53-45F3-BFA4-CEE5D50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0D7043-8AFC-4B9F-9B82-E46B7FB8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95DA9A2-A0BA-49AD-98F2-A82E40C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D32CCC-02A3-4F38-80B2-8A5E809D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66C76A-0EDB-4147-9F42-D4F6159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C64A80-FDE5-43FD-8834-A6CEB2FB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1E10AE-CE36-40E8-A23E-DC59DD7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BB764B-29C8-474D-A1A0-3AE7F6E7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4AE4D4-C9E7-4D6D-81FB-1B262CD7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EB9251-9459-417C-95B4-50E0DAA5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1FF2-0C50-4427-B221-E53C2704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302954-53F4-4B36-8B6E-E5F5FCE0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303F13-CF35-41C5-9BAC-D744F708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401721-E70C-4E54-9BAF-CD4B4F7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039B62-7CEA-46DC-8D97-8B94A84A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EF31F6A-8626-4FA7-9770-11A3B1F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FDAB7CD-CEE3-4944-BA4D-2814F833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76C3E4-C8D9-44B6-8185-6FC7252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9E1031-5D43-48D7-9BD8-E2B6BA86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E762B0-8CFB-4018-A983-B861C76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F2FE056-7368-49E0-BF7C-A8CE5B50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9D363-D5E5-4B47-9639-D5F7679A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529848-E51C-4038-9D76-4CAE6A040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1EC369-0919-4CA2-B3EA-D2B6D53B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5E12AB-B71F-4F92-9880-1A488816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0F0924-A32E-4D27-9E2E-5A1BC43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68E671-B7B3-467A-8D59-6E1A0D8F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B670E9-A2C0-430C-B768-DBB2F5D4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971693-5158-40DE-8068-62B6CD43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73A67D-285D-4462-9FE0-228DCE69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3E75B0-1B63-468C-84B8-9C137B7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7FC3D3E-FE79-48C1-BC39-C64861C1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5DC21-7DAF-4CD4-8DFD-D46885AC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944597-C824-4219-AD77-894DEBC9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FCECA7-9587-43EF-B993-338E6554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A365784-7612-4B0C-8C08-FD516342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A7E27C-E5F9-4D6E-B114-7FAEBA15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957454-21A5-4437-B459-48DA0A75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EBA9E6-E529-4E58-9095-2B06BB10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A65127-F46D-48C0-A7E6-B54BCBF2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96CDC4-6066-4C9F-9ACF-C83C2C9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0693B50-A6DC-4D99-830F-F85DFC7D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A88E0B-C3E0-4B14-B9E8-C71FAC6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48E-3CCE-43A5-8434-A9BC7B4F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81BA-9A02-4012-9777-D04C503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585E27-689F-4672-B5E5-C0583C0B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A21F90C-D286-4792-9C9D-7F9261D0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2CAF048-E78E-480F-8092-223EBAA9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55E4EEA-F333-4750-A190-69797AB1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058CFD-3B87-431D-ABBC-72888353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6346DCB-23B1-4DBC-A1AB-036D35A1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44FE1C-BD33-4001-8C8E-A7B75A9E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803433-9F5D-467F-A677-13FD771A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C4E221-444C-4639-8AD8-4AE9D6D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B60553E-AD6B-4AD5-A302-B701B61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871DC-C5AA-4CFF-AFF6-7C11D7F4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002269B-6258-45B7-B30E-C345C2A9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14054CA-4948-42A2-A078-433F361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059AE9-7ACA-433C-8ADD-B59CE470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6BECA6-5E81-4D69-B2BE-91DAA1E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E4BEAB-6E04-4C8D-8047-81F48A38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E8884F-6E62-40BB-81F1-39A8622D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5DB97F-385F-4A4F-AF14-C4869413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1C8F436-D67E-4D3B-9BD3-D570F6A1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E9FC69E-306C-409F-86A2-C5D83C8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49802D1-D634-4C03-B677-F5848598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21320-0F0A-4100-97AE-03F7F5D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0FFAAE3-00BA-418D-AB3A-261A75D8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A687C0-0CD4-450E-82C8-2A3E06A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B29DF0-3F4B-4E65-9AE5-4E052B40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6DE00F-68CE-4016-8375-70BF8A8B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2EB5CF3-550C-403C-A9E3-AE6DF1F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5BCE7B-6903-4FB5-8E09-6293343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815007-FEF2-4F9E-BF5B-AC6F792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E46D544-3D88-4241-A17E-D4588FA3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CDE381F-0074-4495-8CFA-A3E50BFC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E5E5A9-1BE2-4822-9FF9-BF9F11AC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30B19-38AF-49BB-BCC9-5C3EC978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8B5EE2-69BC-41C7-8965-6F9FFD5D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033FE27-C888-44C2-8125-D5980BED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C26181-6361-415A-9891-8E98F46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D3F6B80-4A2B-48C5-844D-62943DA7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F8CE1D-8723-428E-AC1E-8C4A558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091959A-4B7F-4207-A7B7-6ABE8A5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27AB568-278C-4C6F-A72E-6087AA13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0687676-E419-4A1F-BF19-F480906C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335DC48-7E5D-4B8B-8ADE-A0B38C3A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7CB4B89-E759-428C-957F-EDBEFF7B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19C6-7BFB-4574-8A31-D4CBF3F6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A5388EF-EB7D-4237-ADFB-4AB0E7EC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A94E489-3D80-46BC-9A1C-19A838BF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96E924C-3D64-4F88-910F-DE9BDDF6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FA13325-6C19-4A88-9211-F34DE6A4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8AE8C60-3684-4A2C-8D74-85416C5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BBCF1D8-1869-481E-B2B3-3777AAE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0542693-9789-4885-A9EF-892AFEA6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49791B7-3989-4D52-8672-A22AEA43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9468952-5057-4B73-8C49-F0033EA8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8984061-2A57-4A83-A085-ED8DE04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7CACD-BEEC-4D1E-AA8C-86AA640D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E0CDF14-405F-4B78-9DAC-3C2B3891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A374013-76ED-422D-A87A-239DA16C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9AD1A69-49EE-4ED5-8579-A43CE567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4254DDB-2978-4CD7-A3D3-75AE6D64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447710-A04C-456E-9632-0058B909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81874C-3F84-4742-85F6-4A2EA72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AF9FD7-624F-491F-AB12-7EF2CC12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D7A220-7EC4-41F3-97D3-9D965FD1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FCD1806-7480-4E0F-8B11-DBE43CB3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818E58-7451-4F7A-9AA9-DB25753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F965D-598B-498D-80C2-55B9FF74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3137B1-89AB-4F3D-B05E-D6E71510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1FE0D6C-C652-4FD9-AAFC-6C2ADDC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1D1B8DC-54F9-41FE-A599-18777BC6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59FDE6-873A-4A61-AAED-1FFAAF3B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DD5724-4821-4B17-BB60-B3A69DC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806307-5990-404B-B95C-876E21D0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83AF39-C674-4EBF-913D-B9D318F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38EDA7-E710-4410-BBFF-DC3867F9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ACC5E0-215F-4E6D-84DE-03A366A4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5C859D-D050-4CF9-885F-524F4885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02FCA-ED9D-4A89-96B2-6A09B3C0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B157F4-E9B0-4D42-A89D-533ACC2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15A0D9-42A0-4911-B8FB-6D1B8ACA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6DCCA5-2E43-4F08-B807-9F875E9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F3FF90-1D3F-4350-9ACE-6CFDA09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7B2E9B-0F6E-4C97-B6CF-F890E136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96FFAA-231E-4FDB-8973-38C55946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639FA9-5C3B-4673-9BDF-2EB73CC0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A3F8948-BE90-4230-BC24-48E408FF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ADEB6D-786E-45D3-957E-371DB59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364A8C-4880-4D2C-B444-700548B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BE25-EDB2-4C81-88B2-C7653712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0B992C6-6DB2-4DCD-B62C-8D0AB42A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47F3A1-1391-4BEB-A77B-19CB71C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7BBCA76-90B8-426E-9222-DCACAFF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E431227-280D-4DA3-AC8F-9965059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C71267F-22F1-418F-8E72-7EE6F334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48D009-0391-4632-B12C-A29752B9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D3E69E7-13F1-408F-B045-E77F796B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1DE3563-6F9A-447B-B893-67D80E20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EF89A28-E677-420C-8180-B41C62B4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34BCBE-0BFC-4506-A7B1-8B831BA3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5C46B-608D-4CFE-A1A4-296DE6D9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09C88B-7162-483D-9AD2-B3EB1FA9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A0CFAF-DDBA-4C0D-A5B9-B9FC12B7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25C424-2A06-4B9F-B7AF-08F6A1D2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11EB94-E2A2-4D8D-8556-9198737D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8CDBF31-5DE0-4E42-86F2-5B72EE5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5FF6BF2-D918-454D-ADA5-8D198E3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E79817-D487-4E2D-B994-169D85A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EDBE1E-83BD-4F26-BE43-3E233E95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51E8874-C0D0-46FC-8BF4-ECF59A5A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ED105DA-049B-461B-A307-94AE5FFD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8E8-7F7F-4A60-91DD-5216590C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EBAC9-1F36-47C9-B343-FFC6B82E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FB8BBF-ACD0-402B-AC67-726F11D5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5F9A18-536C-4055-8CF8-32D6D880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DCAB6B-C365-4A81-AEF8-383C3B0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71DB8E-C527-41B6-B958-008972AE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E8E0D8F-BDB3-457A-955D-4118CCC9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4B436DA-DB65-4420-911D-DB764BA3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FB69972-1CB8-4A5F-9596-F3F29D55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DF477BF-E6DB-40D8-ABBA-F979121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AEFF3CA-2E61-467D-B664-50DA8658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2603C9-907F-4451-AE44-902E1001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E806-B04F-46BA-B806-583EFA24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BA624D-B75C-40C1-B47F-D92523FA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EB74E9-5B44-4908-AFB6-3211F08D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228A3E-6A76-47E2-804D-13A3E8BB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90014A-FE7D-458D-8653-828FDBE1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50B91A-1C92-4DDE-88E3-97A3903E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C6AF505-37A7-4B2C-B459-5290C0F3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1C4A676-BCD7-4466-9877-1FECD123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C496E8-69E4-44D4-8195-33A9A3B5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A2FD5B6-4A0F-46E6-8693-B153ABC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E5004E-C9B4-496C-B3F9-B9461D2D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7F2DA-70F8-4D66-82A1-F346ACC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CEAEDF4-3D37-4750-95C0-5C1E426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6DB0196-ECB8-4313-9FCC-26F539E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A0C8621-3340-42BC-972E-BF08B12E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6F82B5-0D58-45FF-B6A6-F6F38F32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A11EDD-3080-4E8C-90D5-6BBB4242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25E587F-E1A8-4CD2-925F-01134A1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521760-FD78-4241-AB9C-8CDBC5F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865042D-B681-4529-A63C-7441A072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FCF599D-11D8-413E-9863-78BD1E6C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64B2A13-D74D-4B4C-BBB5-5A1D9266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CB14C-6B79-4E8C-BCFB-8C46D0BB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AE5BB60-C500-4DFA-9BE2-58D8A53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CFCB6BC-ED8F-4C3D-865B-19371074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DE32CD8-4BAA-402C-AE07-81836AA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CBD814-DDE7-486D-A423-6980FEC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AEE1F77-3425-4727-9125-8C1C05BF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1EDB01-1AF6-493E-9035-0C79AE7A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4B9616-4608-4E33-991E-EB126905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0F1F5E-D605-4525-9A4C-8FFD3B45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15791D2-E49A-4371-86E2-38A4D5DF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F710A34-8647-46B5-9EA6-6541765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230D7-078A-4F0E-B1ED-2FC251F8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52CD897-F5D5-4FC0-9482-1CF8EE1D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474F213-83F7-4A22-890D-0A2E4290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D96418A-33A5-4C44-98CA-BA4D6913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FA28E11-778C-4F7D-910D-517C8E0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1EFAC2F-1953-4987-BE4F-51861ACF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E07B9A-0F60-4E72-AED9-46985ED3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2854D0B-7865-412F-B58C-CB6E9186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8852A6-7CE8-465E-AB0A-7FBF14F7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746EB7-D14A-4533-BE2D-1A813BFC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FA2144-C2C6-4272-B2D6-D609885B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DE395-8892-47B9-A840-0065434D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C5569F-17F5-4500-8200-D914980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CD061AD-46E2-49ED-98C3-C51662E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9EAF032-A533-49E7-AD80-242614A2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90CA0A8-759D-4B5B-B7CC-A1356470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6D670A9-BC51-4B3A-A520-B549F19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CF49802-6EB1-43C4-A60F-4D504D0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B82DD51-A78E-43F6-8F45-F39292EB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BCF83D0-2FB6-481C-9C43-C080A74F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B4CBD3F-2C1B-4636-A345-10D220C9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92238F-EF0D-4B61-9719-AF545372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19B8-B3EB-4868-8045-6176A791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5516CF4-0AD4-4C39-899F-69CC5F86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7D10C5D-8C49-4E74-ADDD-BADD16BF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B36CBC-2A86-4D92-B8CF-CE5B030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7931233-F874-4A90-9368-32504B6A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6BBCB8C-B338-420E-9E6B-38177D3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F3919A-38E2-4E43-9FFB-C98BBE2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35A0A5-5F2F-4638-B479-8115CEF0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F7B53C-D778-4103-A3F5-F801895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4E04595-9311-474A-8507-480FBD39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278C96C-C9A2-4BEF-BE4D-29276DD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9F267-B1F7-40C9-BE03-A352BF0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E2C3E5-2BD0-44D0-A8F7-FAB0BCD3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EEEB86-2314-4CC2-80E1-1C591A86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CEA338-7F67-4D8F-9EA3-22EF8C1C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375F1EB-5796-4865-94E8-C74FB400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662D020-3EC4-4FD7-994C-07D0D4FA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DB7591-58D6-47A2-B112-3BDB9A0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DD3A1F-71A5-46D4-BF15-47820FEC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CA38122-7DFB-44EF-B9DF-1631EB18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A85AEA-BD64-43EA-85BD-55D13A9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4DBA9D7-DFE6-4ABE-B3F0-EBA1A6D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FD2DF-59D5-4258-AD41-0E0354F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7C4D0AD-A642-4AA8-A4C9-6C14114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4E39012-B4E6-481A-9D92-EA626F7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D87349-09BB-4FA5-A924-21A40485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9F62956-ADBB-488B-9831-E8D6709E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2004328-DAF6-4BF0-BA13-28AAB392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DA589C-D5FE-449A-9F92-928EFF78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150E09D-5108-4E07-8647-EC561392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028AAAF-FCF5-4D8B-84CD-A5460D7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B2DBCF1-F4EF-484E-B35A-EDD37CDB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0586B13-42B7-4BA4-8DBB-236E51CD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5F34A-3084-4D02-9C1D-CC798662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F568F70-87AD-4008-AC46-200C2E3B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0044417-9B44-4229-8379-FF878B22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DBEC73-7E72-4856-AD51-18CE0AD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D3F290-0119-48B0-80FB-6E65009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84D498D-5B0E-445F-90AE-1C287F9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C55273-AACE-437F-B54C-780B5116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E01A60E-541F-46D0-8F4F-31329150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DD3FBE6-3080-4049-9DCB-7E9436AD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9DC3A29-F748-482E-8AE0-A089F8AF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9D6D0D3-3894-4358-B2D1-5472A09F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C00-2E36-4517-BD7B-E664E7A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5328-CFBC-4CA7-822F-BA79704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32A30DF-B6AE-4C89-9659-41DF4C6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1406CEB-2717-4147-8487-196AF079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F4EE8CB-A285-47B0-BD53-DAFF114C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EE77EC9-60E1-47E3-ADCD-CFCEC5D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68D4E29-172E-4DDF-9A1D-5331AA9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775ACED-F9EE-4459-B20E-51A83FAB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B29D7D-15DA-4B7D-9A69-65A4F89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D8B77CF-9EF3-4F0B-993C-EAB0A237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0046185-A8A4-4BFB-B325-E9BA8F6F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D400CA1-5FC0-41BD-9D69-44E8706D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1F98-4709-4C21-88B1-9572437F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FE700DD-07D5-428B-9DF6-107EB384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31F2A00-00B2-4CCD-A912-83B55C0E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AFE9A22-D573-4443-A0F9-36B0B1D6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B333062-4DC0-4E7F-84EE-AA3D470E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7631703-05C6-44C9-AAD1-B7908EC9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E1BF0DE-2717-452E-B632-DDBE4D1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47A933-1189-4ACA-9C74-880174D3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AAC8F57-15D0-435D-B775-358BE688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1E3FB9-ABC1-4BF1-9366-82E25A41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C992D59-13DB-4389-AE45-1B6432AF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A9E44-918D-452D-85A4-AD77B1F3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D823F9-9376-4913-A394-929CC45B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64D7CAF-37A4-4B8A-95E4-F368AD41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CFBF299-ACBB-4997-96DF-394B73EA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FBE80D4-BB50-4406-AC58-A8EA7519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910D190-706A-46B7-BA78-FE715AA8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403D051-A552-432C-B4C4-7ED648E9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F5E230C-E2B1-4347-AE80-D5D2795E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2CBB695-B2C4-4199-AE3F-5A8CE35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5909A9E-EFFE-42FC-BBD4-33DA1512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88BADE1-EF17-4F8B-B077-121FD10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11BAC-F7E8-441B-8DB3-3249635E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237257E-7222-4CF6-A6FE-C8C8F6C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57EE23D-C030-4D02-8CE4-129A65B1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0CB7AEC-875F-42A7-8359-620E2777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4D47189-5CE4-4165-8B10-E2DC1F22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AFDB404-9E94-43DD-B1A1-1643B440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A715084-DC90-4585-8A49-2020E6AF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2228A5-2606-46B0-BD88-769C7572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08A5A78-1648-47F6-A8C7-5E25F93E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7AF1500-41EB-4292-BE4C-98E51E4C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17FAC7D-BFDC-429E-97FF-4AAB4869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E223B-B95D-4840-9C5A-9AC1B72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4A9DF8-F19A-401C-8B60-1FAB4F0D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C368E2D-C953-492D-B5F4-AADF69EF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16C4E69-397D-47AA-882F-88B1C7C2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DCB6113-C4AE-4F62-83E8-8B8C4D3A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75DA288-E363-4D3B-8057-BCAEBE38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8734653-9C5F-43FE-8ED4-E61A7941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3A5D4A3-CF78-4176-9434-96D35E66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EC653C1-E66B-469C-BF9F-20E2B36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B7CC4E6-0F25-41B1-9AB1-3887952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060F1F6-42BD-41F6-AAEB-72058310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B3536-A5CD-4F54-B910-139BDCE2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20642096-FFFF-46F2-A38B-88888E00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3276A7E-D252-41F5-9CE1-586B5B1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E7EFE4C-75C8-42DF-A209-1E37A2C5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BAE7365-A610-4271-9E2F-9CE8655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124A940-2D39-4CF0-B1F3-7AE0748F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D47F63C-4DEF-4AF5-8F5F-F60A6888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047D22E-C494-472E-9C90-14755C9E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154F3EA-020F-449D-8998-4847713B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753B74DE-ADAB-44B2-AEB8-659A8D87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AA4045B-F3FC-4B96-B03D-25503292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90670-13B9-4AB8-BAB8-5D9415E8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8AFFF6D-0939-4AF0-BD52-CE1CA75C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61A9D63-D0C5-4B09-AAB0-0F12BA9F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74F1ECD-D6EE-4C02-BB4C-D67E152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B1EE741-4C03-4289-B882-101608EF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123EE93-695E-4C4D-A5A7-E78F29C2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661EB1E-40C2-4F0B-90BE-99D2A441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BA25A24-C325-4616-8DD7-0718191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FBB572-4DD7-4740-A488-4E2FFC2C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E1BA41B-7A35-4A08-B115-0C9EE102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529129-1078-42E0-A103-6EA9A855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AFF1-26FF-4755-8579-E562727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A209887-65CF-45AB-ACF0-76BE1E1D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3EB57AA-3935-4A39-9EB9-2722C09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884A720-B523-4A08-A12B-8DA5D5BD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00FAFC9-C655-46F7-BE7E-6EBD89C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3BD58B6-933F-4AA7-91CD-03EC72B5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EE438D4-45B7-4823-A595-92D8EFB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129B40-DA28-4467-B3B7-F93E8400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C1B874A-AD8F-4B24-81AD-D9C48F7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2A999FD-39DD-411E-B980-776E720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1E2CB6C-BB61-4CA8-BDC2-E07803FE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3A57D-5B86-4F8F-8643-135A26EE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A696707-F28F-43CA-8AA1-BB40911D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5E5480C-E7DA-4F85-88E7-4C9021B3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4ABD8CA-D133-47F8-8E6D-329974F5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17A4CAB-AEBD-4142-BB40-C74B159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5D66AA-7C7F-4ED1-A1B2-1FDEB528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B354C88-4F40-4551-93B0-58F7C4E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FAD3CA9-019C-49BC-9DFC-4C33D583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4DE6D85-E492-4E45-BFDF-4A6DE6BF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5F287B2-E60F-4BBC-818A-EEC6233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128CD84-9435-458A-B480-027C281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8862-EF64-4732-8413-5466B0E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665E904-F779-4F31-89EE-29A7D679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D5A250C-2324-4A72-BCC3-C56DECD3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65752B-7099-4030-AEEB-6D8661CC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24E84DC-D80C-4311-AA50-2E03D3EE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DE98052-55A5-4AC1-9696-748E3333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E73AC4E-5904-43C1-A91C-8F09672C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282ED92F-88A2-48EA-91CB-CCA5FF3F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F71A5F5-41D7-4D90-B0E7-CD9B6EF8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B7CC523-D7A8-4F08-872F-CDDE1E6F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D64C053-F200-48BA-AFA1-C96EBABA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B15-47CE-411B-B35C-C18CD36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13434-3735-45F6-BF6A-33A1B4BE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7774EAB-3D82-4932-BB45-C019E54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8CE7FDA-BABF-42D8-89D3-3C64D1D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42DE2A5-F1DC-4BA8-AD1B-3F44C62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1AD6D86A-E740-409D-8E15-E14FB104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214A4CF-C700-4C92-B882-E0272A7A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1E8E7B1-0911-4D1C-A33F-8334E958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57EC316-B9C6-4AA2-908E-455927A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02D5F97-F900-41AD-BB14-5652B52A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87226FD-463A-456F-B502-26913463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05E82E4-F3D3-403E-B21F-A38372E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BCFC2-8A36-4F00-9B8D-F994F41F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8254CF8-68E9-477C-BDFA-B33DB13C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075A2F2-58FE-421B-8D8D-CC7F564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D0A0F34-0742-4EC7-913B-F1E5E24D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E1E179A-82F8-4328-B1B3-646EA669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19A0E17-AD53-408C-878D-2A02A3DF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5D1648D-7852-4E47-AC25-56F3BBF7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96E88D8-4CBE-47D1-887C-6AD02CCB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05DA097-5FA5-4FBA-B912-1ED719A9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A0580DB-14E3-4CFB-A013-A7602726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09BFE67-B944-46D7-8E68-17095F8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B27ED-8500-46B1-ADFD-0A1F683A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703F7AF-FE17-4651-AB35-2D6C7235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0A7AFA0-5F82-44E9-884A-68AB9635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0E81824-0F9F-49E9-A801-8B8FC2D8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5C7F602-26FE-43AA-9B54-5B479AF2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55A0DD3-9C46-41E0-8EB9-C9E056BE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68E61DE-BE1D-45E7-9A31-AB4C150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292E984-B1B9-45DF-A92F-FA2D02A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9FE27BC-3B43-4E99-B995-375FFE5C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AE55DF3-1B55-4282-84D4-CC9D0D2F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9E7E5E0-17AB-4DD4-8921-77398673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4C51-3B5B-49E3-8FB3-524EFA5C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28EAB7F-94E5-4066-BFD7-CCB51A61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B769CE33-3097-4C16-8299-7A0779D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5B08026-2C2E-43CD-B09C-F3646FE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24D39C3-E3E3-4DA9-8F97-13369CF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9A45BD1-7228-4840-8911-F8A14982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69B797D-B06E-4683-B4F5-46DE2102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0939F6FB-8866-47F3-A1CD-795E883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94C9A2C-31DA-49C8-AE3C-8C3A8F9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A2BB54E-07B0-433C-923B-C7A33D8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EBBD05F-DB54-4261-987B-74A06260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2125-A0D1-49FA-B22F-082AAD03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E48DB402-1F6A-440F-AEAE-AAFF09C0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0A449E2-6F11-449A-B6C6-473C9D28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E5E0B25-1012-4278-8217-E8F85C7A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610D747-CC73-4F60-9596-CD9FC50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D90274-6085-466F-9D82-CC9DE57E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0406E5A-2F14-42A3-BDBF-CA7D186E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CD20B38-09F0-4E43-98FA-FE50F24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497514D-2B84-4A59-A4D7-2917A253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273A409-AD32-4AFC-BF9E-AF04B989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C267B99-94E0-4B27-A95A-51C1E2D6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EC8FF-F889-4F27-A222-EB522CE9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2D87031C-360A-476D-8366-2FE9B31D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A49990B-D8FC-49C5-B6A3-72F7B094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C1ACDE3-BC4A-47C8-B6F9-9710395A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63A4554-F445-4454-8308-6135C973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53C5FB2-FBB9-4D80-87C5-C58B5CF6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8D225F4-6E83-4DD9-8DD1-99037E09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7FD6A92-03B2-4585-8A28-A44443C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47F67CF-8211-498B-8FE9-821069AA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69A04A0-2293-4FD4-BD9D-FD17045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DD38771-4F18-49AE-BB8A-F7D5A20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49836-419B-4BA9-9770-097599A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68DBAFE-193E-4FDC-B2B2-87985B8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4628DA8-7986-4890-B807-9F6EA79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8A5111D-A83A-4BB6-8550-D2C951A0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8445AF7-91F3-477A-BEE1-E32D40E7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6B32CA8-DAF0-465E-8F71-5C0028C1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8C4DB3B-9947-453B-A2F0-D0BDDCEB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3EECBCB-F15E-4317-A0A7-A1A70C4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2B09D80-0A6E-48B6-821E-AD338C0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1250460-C76B-423C-A4F5-72780E18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E5B6229-A479-43AC-9F76-1EA525CF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4ED1-029C-45F3-983E-6B5B8691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F003477-1328-47AD-8B67-50E00070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61ADD82-0973-4133-B80C-EDC97CE9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6A7DAFD-D108-4C52-B6BC-E21412B9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CE45019-D6A5-40C6-BF05-E995D8A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BBFC063-AAA7-4ECE-B2E9-8E9E46E1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063126A-5C82-46DA-9739-7AAD450C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8780BBF-4C20-4DF6-BDE6-66B49744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AEF67-24AA-4E14-924F-A7C3700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5EC07-2846-4828-ADEF-9F45DBF1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319-6CE9-4743-B5C2-9CEA913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9C66-59C1-48FE-98C2-0D2D247B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17C9F-788F-420B-AABB-270E0DCE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9E466-8ADD-476F-A887-7BEDD9F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96BA-A915-4B62-9885-3217E257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C3316-9A0A-4E4F-B4C9-8062604C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7B38-F79C-496E-BD25-5CCA83FB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ABAC1-0E31-4CC0-A218-F27286D9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98CE2-9A1A-4812-B3B5-FB9A805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A2E5-37D8-44E0-A971-5EF1C26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B1FC-E422-488A-AA36-13EF3745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5A40-CB0E-4A5F-A681-D9B5B58E660D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6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8 - Ελεύθερη σχεδίαση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075-0F0B-4EC1-9EC7-28F986365912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12C7-39CF-4559-9A8D-8B0B587441B1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F98-C688-4626-AB57-03B4E7B79035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68F-FBE6-4511-A42D-A6DF2E767AB2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F5A-8F3E-4F9E-A20B-F68842FEA6C9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FDCB-432E-4D3A-8D59-723D463051A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9568-BDBC-4C35-ACB2-00205BB94767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250-3ADF-424F-BB52-DF34BDB694F6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C93E-FAFA-432F-9422-5BF5ABD4EA2F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Ελεύθερη σχεδίαση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Ελεύθερη σχεδίαση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A25E-4A27-4001-A470-E8FCA427711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3A71-11A8-4525-B9EF-5831D50EF9A0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6C8-8D65-4A49-A5AA-C80798FDD1A8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Ελεύθερη σχεδίαση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Ελεύθερη σχεδίαση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2799-EACE-4D8F-8E1A-FD9728C44BC0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E82-BC9D-4F29-A811-3724BCF0BF26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F363-8452-47CB-9A53-8EE64E644C2D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sldNum" idx="7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916-C896-469C-A473-1111D15A501C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ftr" idx="7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7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7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7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1EA1-1E87-4BC9-97A8-27934F8B8179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3CF8-BB12-4912-A9E8-793E607F817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8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8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A287-6CBC-46AD-A7AE-7F458E405EAF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 type="dt" idx="8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 type="ftr" idx="8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 type="sldNum" idx="8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8C3-260B-4B4F-95F3-8423C75829DD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8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8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8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D98-40F7-43CF-9225-FC8C639BEC8B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Ελεύθερη σχεδίαση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Ελεύθερη σχεδίαση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D93-5BDB-4272-97F4-8470CB799BDE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569-B0D0-4D8A-A2AF-ADC38DA8A19D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4F5-B490-47A1-BE4B-2F34852C82FE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6D62-9D06-4602-B354-489F5CADC9A1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8C7D-8C8A-447A-8B82-6F45C9E99336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51F8-DF1A-47BE-AA5E-FC84D9A26E3A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652C-0972-45E8-B8F5-B0C349E9D905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5AA7-B12D-4E7E-A9A2-D2D8CBDCC75D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FC7-EE36-4C98-9594-C59EE06370ED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FE08-7C2F-4D67-AFB9-414557701594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2833-6CC2-4B6E-93D5-4BB1C64BBE3F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28A3-DB8E-47E2-BFC8-CF08EA30BB37}" type="slidenum">
              <a:rPr b="0" lang="el-G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067-51F1-4EC3-BEF9-BF75DF6B274F}" type="slidenum"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12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12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12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D425-356F-452D-8502-2116B53A16DB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 type="dt" idx="12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 type="ftr" idx="12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 type="sldNum" idx="12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08B-6E77-4CCD-9B03-84C750F1E30C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12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12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12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A8E-87A8-415F-9CC5-887E61026A4B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 type="dt" idx="13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 type="ftr" idx="13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 type="sldNum" idx="13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F499-C2AC-43DD-8C78-F8503F33750F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 type="dt" idx="13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 type="ftr" idx="13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 type="sldNum" idx="13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D90-9CF9-4BDE-9EAA-0D50A5B5025E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3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sldNum" idx="13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8E0B-C45E-486B-A966-138EAF8EC6BF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ftr" idx="1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 type="dt" idx="13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 type="ftr" idx="14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5"/>
          <p:cNvSpPr>
            <a:spLocks noGrp="1"/>
          </p:cNvSpPr>
          <p:nvPr>
            <p:ph type="sldNum" idx="14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BD2E-DD66-4AB0-A6C6-8E4E612661AC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 type="dt" idx="14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 type="ftr" idx="14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 type="sldNum" idx="14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0106-ABE3-4E4B-BD1A-13172DE40D63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 type="dt" idx="14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 type="ftr" idx="14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5"/>
          <p:cNvSpPr>
            <a:spLocks noGrp="1"/>
          </p:cNvSpPr>
          <p:nvPr>
            <p:ph type="sldNum" idx="14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575A-CCE8-43E8-9E0F-FC73E864042A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F404-D7FA-4F16-89AA-94732DE0B389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 type="dt" idx="14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 type="ftr" idx="14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 type="sldNum" idx="15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2B4D-419A-4449-8979-F28617DD82B9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4280" indent="-287280"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4840"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54200" indent="-190800"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958680" indent="-177480"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117440" indent="-136440">
              <a:spcBef>
                <a:spcPts val="550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117440" indent="-13644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 type="dt" idx="15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 type="ftr" idx="15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5"/>
          <p:cNvSpPr>
            <a:spLocks noGrp="1"/>
          </p:cNvSpPr>
          <p:nvPr>
            <p:ph type="sldNum" idx="15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7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C21E-BEAD-49C4-8E7B-FDF314C2EBB6}" type="slidenum">
              <a:rPr b="0" lang="el-GR" sz="7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EC33-6448-4A5A-92C0-5413F887F698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BD5-9C48-41E4-951D-40B36C68EF7F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666B-B1FD-4205-9E27-6DC26D6E5CB9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1805-C750-47D3-AFB4-DD0941FAC083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683F-5705-4F10-9AB3-F93EF1FA325B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CF5E-14EB-469D-84F3-F71369FF8804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9B42-8037-4A00-9025-C5559ABC0A1D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F267-1EA7-4360-ADA3-148663664C0E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AFD-2808-46EA-85AB-F25B4B4B9CB5}" type="slidenum">
              <a:rPr b="0" lang="en-GB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8056-8799-4D50-A533-A18927790F40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20A3-BDA2-47D6-BA7E-7DFD9B6FE847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441-3076-4A0A-820E-6A68D5927597}" type="slidenum">
              <a:rPr b="0" lang="en-GB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5A83-A927-4191-B25D-E198F45B7BA2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D34-7FAD-42C3-8CB0-D276CF06DDFC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4CF3-58D5-4CD5-937A-9BAEC41CA88E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23E8-02CE-42C7-90B2-8BFD84C11BCF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257F-52C3-40C3-A95B-B92A1876B8BE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3FE1-CE0C-4B22-AD6D-94DD9B33B845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E3C5-EDA8-4368-B9A6-88F699C63718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554-F75A-42A7-AF4F-82ED9DACB9DB}" type="slidenum">
              <a:rPr b="0" lang="el-G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947-C705-4B46-A291-FE1AAC0344C2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22EC-59AF-4D76-A38E-EF08FAF1BE58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7591-263F-40C5-8769-3B8402E08761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869-2366-42A8-A558-512CC344347A}" type="slidenum">
              <a:rPr b="0" lang="el-GR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6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7 - Ελεύθερη σχεδίαση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487E-9B00-4B8F-B86D-6CAE889A06F8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73737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11 - Ελεύθερη σχεδίαση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15 - Ελεύθερη σχεδίαση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2283-948D-4B69-B8FA-8FCC98BC3865}" type="slidenum">
              <a:rPr b="0" lang="el-GR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48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0" name="Rectangl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28200" cy="1755720"/>
          </a:xfrm>
          <a:prstGeom prst="rect">
            <a:avLst/>
          </a:prstGeom>
          <a:ln w="0">
            <a:noFill/>
          </a:ln>
        </p:spPr>
      </p:pic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Ομάδα Β2: Κουλαξίδης Ευθύμιος-Ορέστη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Κατηγορία: Βιβλιογραφικ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2" name="Picture 6" descr="Kiran_Pat_figur2"/>
          <p:cNvPicPr/>
          <p:nvPr/>
        </p:nvPicPr>
        <p:blipFill>
          <a:blip r:embed="rId2"/>
          <a:stretch/>
        </p:blipFill>
        <p:spPr>
          <a:xfrm>
            <a:off x="2133720" y="3657600"/>
            <a:ext cx="4762440" cy="2981160"/>
          </a:xfrm>
          <a:prstGeom prst="rect">
            <a:avLst/>
          </a:prstGeom>
          <a:ln w="0">
            <a:noFill/>
          </a:ln>
        </p:spPr>
      </p:pic>
      <p:sp>
        <p:nvSpPr>
          <p:cNvPr id="3063" name="Rectangle 1"/>
          <p:cNvSpPr/>
          <p:nvPr/>
        </p:nvSpPr>
        <p:spPr>
          <a:xfrm>
            <a:off x="324000" y="22716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7327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ΘΕΜΑ: Πειραματικές μέθοδοι στη συστημική βιολογ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Rectangle 2"/>
          <p:cNvSpPr/>
          <p:nvPr/>
        </p:nvSpPr>
        <p:spPr>
          <a:xfrm>
            <a:off x="187200" y="1833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ΜΑΔΑ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οντάρη Μαρ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ηγορία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itle 1"/>
          <p:cNvSpPr/>
          <p:nvPr/>
        </p:nvSpPr>
        <p:spPr>
          <a:xfrm>
            <a:off x="2050920" y="917640"/>
            <a:ext cx="53294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Name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Experimental_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1" name="Picture 5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2" name="Picture 6" descr=""/>
          <p:cNvPicPr/>
          <p:nvPr/>
        </p:nvPicPr>
        <p:blipFill>
          <a:blip r:embed="rId2"/>
          <a:stretch/>
        </p:blipFill>
        <p:spPr>
          <a:xfrm>
            <a:off x="622440" y="3716280"/>
            <a:ext cx="4047840" cy="27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03" name="TextBox 7"/>
          <p:cNvSpPr/>
          <p:nvPr/>
        </p:nvSpPr>
        <p:spPr>
          <a:xfrm>
            <a:off x="12600" y="131760"/>
            <a:ext cx="1465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4" name=""/>
          <p:cNvGraphicFramePr/>
          <p:nvPr/>
        </p:nvGraphicFramePr>
        <p:xfrm>
          <a:off x="457200" y="333360"/>
          <a:ext cx="8229600" cy="615960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Sylla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p mRNA Sequenc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s Spectrometry-Based Proteo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term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 and Mass Cytometry for Single Cell Protein Levels and Cell F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-cell Imaging for Single Cell Protein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and Interpreting Datasets with Network Models and Dynamical 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view and Conclusions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k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1760400" y="217440"/>
            <a:ext cx="7561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ΘΕΜΑ: </a:t>
            </a:r>
            <a:r>
              <a:rPr b="0" lang="el-GR" sz="2000" spc="-1" strike="noStrike">
                <a:solidFill>
                  <a:srgbClr val="898989"/>
                </a:solidFill>
                <a:latin typeface="Calibri"/>
              </a:rPr>
              <a:t>Νανοσυστήματα μεταφοράς φαρμακομορίω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ΟΜΑΔΑ: Τζανόπουλος Αντώνι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898989"/>
                </a:solidFill>
                <a:latin typeface="Calibri"/>
              </a:rPr>
              <a:t>ΚΑΤΗΓΟΡΙΑ: Βιβλιογραφικ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6" name="Picture 2" descr=""/>
          <p:cNvPicPr/>
          <p:nvPr/>
        </p:nvPicPr>
        <p:blipFill>
          <a:blip r:embed="rId1"/>
          <a:stretch/>
        </p:blipFill>
        <p:spPr>
          <a:xfrm>
            <a:off x="971640" y="2006640"/>
            <a:ext cx="6985080" cy="4248000"/>
          </a:xfrm>
          <a:prstGeom prst="rect">
            <a:avLst/>
          </a:prstGeom>
          <a:ln w="0">
            <a:noFill/>
          </a:ln>
        </p:spPr>
      </p:pic>
      <p:sp>
        <p:nvSpPr>
          <p:cNvPr id="3107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Τίτλος 5"/>
          <p:cNvSpPr/>
          <p:nvPr/>
        </p:nvSpPr>
        <p:spPr>
          <a:xfrm>
            <a:off x="1979640" y="2565360"/>
            <a:ext cx="460836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NO SLIDE 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545760" y="-106560"/>
            <a:ext cx="81342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brication with 3d print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 type="subTitle"/>
          </p:nvPr>
        </p:nvSpPr>
        <p:spPr>
          <a:xfrm>
            <a:off x="185400" y="734760"/>
            <a:ext cx="851220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Εισαγωγή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Προσδιορισμός μεθόδων 3d printing(βιομίμηση,   αυτοσυναρμολόγηση, μικροόργανα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Τεχνικές bioprinting(inject, microextrusion, laser                         assisted bioprin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Πρώτες ύλες για 3d prin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WPS Special 1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Συμπεράσματ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Rectangle 4"/>
          <p:cNvSpPr/>
          <p:nvPr/>
        </p:nvSpPr>
        <p:spPr>
          <a:xfrm>
            <a:off x="5948280" y="558972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ημήτρης Ζαρκάδ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3" name="Picture 3" descr=""/>
          <p:cNvPicPr/>
          <p:nvPr/>
        </p:nvPicPr>
        <p:blipFill>
          <a:blip r:embed="rId1"/>
          <a:stretch/>
        </p:blipFill>
        <p:spPr>
          <a:xfrm>
            <a:off x="8215200" y="56844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4" name="Picture 4" descr=""/>
          <p:cNvPicPr/>
          <p:nvPr/>
        </p:nvPicPr>
        <p:blipFill>
          <a:blip r:embed="rId2"/>
          <a:stretch/>
        </p:blipFill>
        <p:spPr>
          <a:xfrm>
            <a:off x="8215200" y="143676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3115" name="Picture 5" descr=""/>
          <p:cNvPicPr/>
          <p:nvPr/>
        </p:nvPicPr>
        <p:blipFill>
          <a:blip r:embed="rId3"/>
          <a:stretch/>
        </p:blipFill>
        <p:spPr>
          <a:xfrm>
            <a:off x="8215200" y="219564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6" name="Picture 6" descr=""/>
          <p:cNvPicPr/>
          <p:nvPr/>
        </p:nvPicPr>
        <p:blipFill>
          <a:blip r:embed="rId4"/>
          <a:stretch/>
        </p:blipFill>
        <p:spPr>
          <a:xfrm>
            <a:off x="8215200" y="339552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3117" name="Picture 7" descr=""/>
          <p:cNvPicPr/>
          <p:nvPr/>
        </p:nvPicPr>
        <p:blipFill>
          <a:blip r:embed="rId5"/>
          <a:stretch/>
        </p:blipFill>
        <p:spPr>
          <a:xfrm>
            <a:off x="8215200" y="415620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3118" name="Picture 8" descr=""/>
          <p:cNvPicPr/>
          <p:nvPr/>
        </p:nvPicPr>
        <p:blipFill>
          <a:blip r:embed="rId6"/>
          <a:stretch/>
        </p:blipFill>
        <p:spPr>
          <a:xfrm>
            <a:off x="8215200" y="4970520"/>
            <a:ext cx="1200240" cy="1200240"/>
          </a:xfrm>
          <a:prstGeom prst="rect">
            <a:avLst/>
          </a:prstGeom>
          <a:ln w="0">
            <a:noFill/>
          </a:ln>
        </p:spPr>
      </p:pic>
      <p:sp>
        <p:nvSpPr>
          <p:cNvPr id="3119" name="TextBox 10"/>
          <p:cNvSpPr/>
          <p:nvPr/>
        </p:nvSpPr>
        <p:spPr>
          <a:xfrm>
            <a:off x="866880" y="279576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utational-</a:t>
            </a: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Υπολογιστικ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TextBox 9"/>
          <p:cNvSpPr/>
          <p:nvPr/>
        </p:nvSpPr>
        <p:spPr>
          <a:xfrm>
            <a:off x="942840" y="5524560"/>
            <a:ext cx="29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ffffff"/>
                </a:solidFill>
                <a:latin typeface="Arial"/>
              </a:rPr>
              <a:t>Συνεργάτε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ffffff"/>
                </a:solidFill>
                <a:latin typeface="Arial"/>
              </a:rPr>
              <a:t>Θεώδορος Σακελλαρόπουλ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1" name="1 - Τίτλος" descr=""/>
          <p:cNvPicPr/>
          <p:nvPr/>
        </p:nvPicPr>
        <p:blipFill>
          <a:blip r:embed="rId1"/>
          <a:stretch/>
        </p:blipFill>
        <p:spPr>
          <a:xfrm>
            <a:off x="682560" y="1335240"/>
            <a:ext cx="7778880" cy="2651040"/>
          </a:xfrm>
          <a:prstGeom prst="rect">
            <a:avLst/>
          </a:prstGeom>
          <a:ln w="0">
            <a:noFill/>
          </a:ln>
        </p:spPr>
      </p:pic>
      <p:sp>
        <p:nvSpPr>
          <p:cNvPr id="3122" name="PlaceHolder 1"/>
          <p:cNvSpPr>
            <a:spLocks noGrp="1"/>
          </p:cNvSpPr>
          <p:nvPr>
            <p:ph type="subTitle"/>
          </p:nvPr>
        </p:nvSpPr>
        <p:spPr>
          <a:xfrm>
            <a:off x="324000" y="4292280"/>
            <a:ext cx="8170560" cy="1297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Εμβιομηχανική και Βιοϊατρική Τεχνολογί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Μαυράκης Ευάγγελο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TextBox 3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 u="sng">
                <a:solidFill>
                  <a:srgbClr val="ffffff"/>
                </a:solidFill>
                <a:uFillTx/>
                <a:latin typeface="Franklin Gothic Book"/>
              </a:rPr>
              <a:t>Κυριότερα είδη δικτύων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Protein-protein interaction (PPI)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Regulatory networks (GRNs)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Signal transduction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Metabolic netwo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ffff"/>
                </a:solidFill>
                <a:latin typeface="Arial"/>
              </a:rPr>
              <a:t>Βiochemical networks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Franklin Gothic Book"/>
              </a:rPr>
              <a:t>Εξήγηση Βιολογικού Φαινομένου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 Signaling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η διαδικασία μεταφοράς της πληροφορίας από προς και μέσα στα κύτταρα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Κινάσες: Μεταφέρουν πολλές πληροφορίες στα κύτταρα (πολλαπλασιασμός, μίτωση, απόπτωση, γονιδιακή έκφραση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PK: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Πρωτεϊνικές Κινάσες Ενεργοποιούμενες από Μιτογόν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Τεχνολογική Ανάγκη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νάγκη Μοντελοποίησης Παραγωγής Κινασών στα Κύτταρα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Δημιουργία φαρμάκων που εμποδίζουν κάποιο επίπεδο του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aling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λλά ποιο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Μείωση πολλαπλασιασμού κυττάρων (καρκίνο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Αύξηση παραγωγής ινσουλίνης (διαβήτης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Πειραματικά Δεδομένα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1" name="3 - Θέση περιεχομένου" descr="experiment.png"/>
          <p:cNvPicPr/>
          <p:nvPr/>
        </p:nvPicPr>
        <p:blipFill>
          <a:blip r:embed="rId1"/>
          <a:stretch/>
        </p:blipFill>
        <p:spPr>
          <a:xfrm>
            <a:off x="220680" y="1341360"/>
            <a:ext cx="8740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-25560" y="-360"/>
            <a:ext cx="9144000" cy="18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3</a:t>
            </a:r>
            <a:br>
              <a:rPr sz="3200"/>
            </a:b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ΘΕΜΑ: </a:t>
            </a: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Systems biology in drug discovery</a:t>
            </a:r>
            <a:br>
              <a:rPr sz="4200"/>
            </a:br>
            <a:r>
              <a:rPr b="1" lang="el-GR" sz="1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 type="subTitle"/>
          </p:nvPr>
        </p:nvSpPr>
        <p:spPr>
          <a:xfrm>
            <a:off x="179280" y="5877000"/>
            <a:ext cx="8856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ΟΜΑΔΑ: Τζωρτζόπουλος Γεώργιο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Calibri"/>
              </a:rPr>
              <a:t>ΚΑΤΗΓΟΡΙΑ: Βιβλιογραφικό θέμα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66" name="Εικόνα 3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028680" cy="3238560"/>
          </a:xfrm>
          <a:prstGeom prst="rect">
            <a:avLst/>
          </a:prstGeom>
          <a:ln w="0">
            <a:noFill/>
          </a:ln>
        </p:spPr>
      </p:pic>
      <p:pic>
        <p:nvPicPr>
          <p:cNvPr id="3067" name="Εικόνα 4" descr=""/>
          <p:cNvPicPr/>
          <p:nvPr/>
        </p:nvPicPr>
        <p:blipFill>
          <a:blip r:embed="rId3"/>
          <a:stretch/>
        </p:blipFill>
        <p:spPr>
          <a:xfrm>
            <a:off x="3132000" y="3476520"/>
            <a:ext cx="3270240" cy="2293920"/>
          </a:xfrm>
          <a:prstGeom prst="rect">
            <a:avLst/>
          </a:prstGeom>
          <a:ln w="0">
            <a:noFill/>
          </a:ln>
        </p:spPr>
      </p:pic>
      <p:pic>
        <p:nvPicPr>
          <p:cNvPr id="3068" name="Εικόνα 5" descr=""/>
          <p:cNvPicPr/>
          <p:nvPr/>
        </p:nvPicPr>
        <p:blipFill>
          <a:blip r:embed="rId4"/>
          <a:stretch/>
        </p:blipFill>
        <p:spPr>
          <a:xfrm>
            <a:off x="5508720" y="1598760"/>
            <a:ext cx="27352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600" spc="-1" strike="noStrike">
                <a:solidFill>
                  <a:srgbClr val="ffffff"/>
                </a:solidFill>
                <a:latin typeface="Franklin Gothic Book"/>
              </a:rPr>
              <a:t>Μοντελοποίηση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33" name=""/>
          <p:cNvSpPr txBox="1"/>
          <p:nvPr/>
        </p:nvSpPr>
        <p:spPr>
          <a:xfrm>
            <a:off x="456840" y="1268280"/>
            <a:ext cx="7467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Κάθε διάγραμμα μας δίνει την συγκέντρωση μιας κινάσης με δεδομένη διέγερση και σε δεδομένο περιβάλλο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Διαφορική Εξίσωση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        dCk/dt = - k1 * Ck + k2 * 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Εύρεση των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1,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2 </a:t>
            </a:r>
            <a:r>
              <a:rPr b="0" lang="el-GR" sz="3000" spc="-1" strike="noStrike">
                <a:solidFill>
                  <a:srgbClr val="ffffff"/>
                </a:solidFill>
                <a:latin typeface="Arial"/>
              </a:rPr>
              <a:t>για να ταιριάζει η υπολογιστική επίλυση της δ.ε. στα πειραματικά δεδομένα με μεθόδους αιτιοκρατικής βελτιστοποίησης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1223640" y="94428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el-GR" sz="1900" spc="-1" strike="noStrike">
                <a:solidFill>
                  <a:srgbClr val="000000"/>
                </a:solidFill>
                <a:latin typeface="Calibri"/>
              </a:rPr>
              <a:t>Εμβιομηχανική και Βιο-Ιατρική Τεχνολογία</a:t>
            </a:r>
            <a:br>
              <a:rPr sz="1900"/>
            </a:br>
            <a:r>
              <a:rPr b="0" lang="el-GR" sz="1900" spc="-1" strike="noStrike">
                <a:solidFill>
                  <a:srgbClr val="000000"/>
                </a:solidFill>
                <a:latin typeface="Calibri"/>
              </a:rPr>
              <a:t>Ομάδα : Μάριος Δαμίγος , Αθανάσιος Λιατσικούρας</a:t>
            </a:r>
            <a:br>
              <a:rPr sz="27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Υπολογιστικό Θέ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oGrap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TextBox 7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Y2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TextBox 8"/>
          <p:cNvSpPr/>
          <p:nvPr/>
        </p:nvSpPr>
        <p:spPr>
          <a:xfrm>
            <a:off x="6067440" y="1747800"/>
            <a:ext cx="295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Συνεργάτε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Θεώδορος Σακελλαρόπουλο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5112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ffffff"/>
                </a:solidFill>
                <a:latin typeface="Calibri"/>
              </a:rPr>
              <a:t>Συνοπτική περιγραφή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subTitle"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Συστημική βιολογία: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θεωρία συστημάτων σε κύτταρα και οργανισμού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Υπολογιστική μοντελοποίηση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δίκτυα διακίνησης σήματος, συλλογή δεδομένων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επικρατέστερες μέθοδοι και μαθηματικά μοντέλ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Εφαρμοσμένα παραδείγματ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μεταβολισμός, πρωτεΐνες και γονίδι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ffff"/>
                </a:solidFill>
                <a:uFillTx/>
                <a:latin typeface="Calibri"/>
              </a:rPr>
              <a:t>Οφέλη στην ανακάλυψη φαρμάκων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l-GR" sz="2600" spc="-1" strike="noStrike">
                <a:solidFill>
                  <a:srgbClr val="ffffff"/>
                </a:solidFill>
                <a:latin typeface="Calibri"/>
              </a:rPr>
              <a:t>χρόνος, ψηφιακές προσομοιώσεις, εντοπισμός στόχου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71" name="Picture 2" descr=""/>
          <p:cNvPicPr/>
          <p:nvPr/>
        </p:nvPicPr>
        <p:blipFill>
          <a:blip r:embed="rId2"/>
          <a:stretch/>
        </p:blipFill>
        <p:spPr>
          <a:xfrm>
            <a:off x="6443640" y="3951360"/>
            <a:ext cx="2524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460836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NO SLIDE S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1061640" y="5157720"/>
            <a:ext cx="36990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μάδα - Χατζή Δέσποιν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Κατηγορία: Βιβλιογραφικ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TextBox 4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B5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5" name="Τίτλος 1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7815240" cy="2195640"/>
          </a:xfrm>
          <a:prstGeom prst="rect">
            <a:avLst/>
          </a:prstGeom>
          <a:ln w="0">
            <a:noFill/>
          </a:ln>
        </p:spPr>
      </p:pic>
      <p:sp>
        <p:nvSpPr>
          <p:cNvPr id="3076" name="PlaceHolder 1"/>
          <p:cNvSpPr>
            <a:spLocks noGrp="1"/>
          </p:cNvSpPr>
          <p:nvPr>
            <p:ph type="subTitle"/>
          </p:nvPr>
        </p:nvSpPr>
        <p:spPr>
          <a:xfrm>
            <a:off x="1258920" y="2060280"/>
            <a:ext cx="6400800" cy="4298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ΕΥΣΤΑΘΙΟΣ ΜΑΔΕΝΙΔΗΣ ΑΜ 0211263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7" name="Picture 2" descr="C:\Users\User\Desktop\bio\183368.jpg"/>
          <p:cNvPicPr/>
          <p:nvPr/>
        </p:nvPicPr>
        <p:blipFill>
          <a:blip r:embed="rId2"/>
          <a:stretch/>
        </p:blipFill>
        <p:spPr>
          <a:xfrm>
            <a:off x="2771640" y="23493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078" name="Rectangle 4"/>
          <p:cNvSpPr/>
          <p:nvPr/>
        </p:nvSpPr>
        <p:spPr>
          <a:xfrm>
            <a:off x="109440" y="18252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Outline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Φυσιολογικά χαρακτηριστικά του σπέρματος και  πως μπορούν τα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iomem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να βοηθήσουν στην ανάπτυξη μεθόδων ανίχνευσης της γονιμότητας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Συμβατικός τύπος ελέγχου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σπέρματο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Χρησιμοποίηση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iochip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και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lab on chips </a:t>
            </a: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για  έρευνα ,έλεγχο , αναγνώριση και επεξεργασία παραλλαγμένων γονίδιων κ προβλημάτων γονιμότητα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Υπάρχουσες μελέτες και ανακαλύψει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ffffff"/>
                </a:solidFill>
                <a:latin typeface="Arial"/>
              </a:rPr>
              <a:t>Μια νέα ιδέα και μελέτη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rket research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Σχεδιασμός και κατασκευή προϊόντος (κατασκευαστικό θέμα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7559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ΘΕΜΑ: Ρομποτικά χέρια με εφαρμογή ως προσθετικά μέλ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2" name="Rectangle 2"/>
          <p:cNvSpPr/>
          <p:nvPr/>
        </p:nvSpPr>
        <p:spPr>
          <a:xfrm>
            <a:off x="187200" y="1833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ΜΑΔ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7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οντούδης Γεώργι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ηγορία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ιβλιογραφικ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Title 1"/>
          <p:cNvSpPr/>
          <p:nvPr/>
        </p:nvSpPr>
        <p:spPr>
          <a:xfrm>
            <a:off x="2430360" y="917640"/>
            <a:ext cx="54547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hortName</a:t>
            </a: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bot-Hands-Prosthe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4" name="Picture 4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578400" cy="4426200"/>
          </a:xfrm>
          <a:prstGeom prst="rect">
            <a:avLst/>
          </a:prstGeom>
          <a:ln w="0">
            <a:noFill/>
          </a:ln>
        </p:spPr>
      </p:pic>
      <p:pic>
        <p:nvPicPr>
          <p:cNvPr id="3085" name="Picture 7" descr=""/>
          <p:cNvPicPr/>
          <p:nvPr/>
        </p:nvPicPr>
        <p:blipFill>
          <a:blip r:embed="rId2"/>
          <a:stretch/>
        </p:blipFill>
        <p:spPr>
          <a:xfrm>
            <a:off x="711360" y="2595600"/>
            <a:ext cx="3436920" cy="4016160"/>
          </a:xfrm>
          <a:prstGeom prst="rect">
            <a:avLst/>
          </a:prstGeom>
          <a:ln w="0">
            <a:noFill/>
          </a:ln>
        </p:spPr>
      </p:pic>
      <p:sp>
        <p:nvSpPr>
          <p:cNvPr id="3086" name="Rectangle 2"/>
          <p:cNvSpPr/>
          <p:nvPr/>
        </p:nvSpPr>
        <p:spPr>
          <a:xfrm>
            <a:off x="187200" y="1440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"/>
          <p:cNvSpPr txBox="1"/>
          <p:nvPr/>
        </p:nvSpPr>
        <p:spPr>
          <a:xfrm>
            <a:off x="39528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νασκόπηση ρομποτικών χερ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Κατηγορίες ρομποτικών χερι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λληλεπίδραση ανθρώπου-ρομπότ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8" name="Picture 3" descr=""/>
          <p:cNvPicPr/>
          <p:nvPr/>
        </p:nvPicPr>
        <p:blipFill>
          <a:blip r:embed="rId1"/>
          <a:stretch/>
        </p:blipFill>
        <p:spPr>
          <a:xfrm>
            <a:off x="758880" y="960480"/>
            <a:ext cx="1297080" cy="1604880"/>
          </a:xfrm>
          <a:prstGeom prst="rect">
            <a:avLst/>
          </a:prstGeom>
          <a:ln w="0">
            <a:noFill/>
          </a:ln>
        </p:spPr>
      </p:pic>
      <p:pic>
        <p:nvPicPr>
          <p:cNvPr id="3089" name="Picture 4" descr=""/>
          <p:cNvPicPr/>
          <p:nvPr/>
        </p:nvPicPr>
        <p:blipFill>
          <a:blip r:embed="rId2"/>
          <a:stretch/>
        </p:blipFill>
        <p:spPr>
          <a:xfrm>
            <a:off x="2597040" y="949320"/>
            <a:ext cx="1382760" cy="1616040"/>
          </a:xfrm>
          <a:prstGeom prst="rect">
            <a:avLst/>
          </a:prstGeom>
          <a:ln w="0">
            <a:noFill/>
          </a:ln>
        </p:spPr>
      </p:pic>
      <p:pic>
        <p:nvPicPr>
          <p:cNvPr id="3090" name="Picture 5" descr=""/>
          <p:cNvPicPr/>
          <p:nvPr/>
        </p:nvPicPr>
        <p:blipFill>
          <a:blip r:embed="rId3"/>
          <a:stretch/>
        </p:blipFill>
        <p:spPr>
          <a:xfrm>
            <a:off x="4332240" y="949320"/>
            <a:ext cx="1074960" cy="1616040"/>
          </a:xfrm>
          <a:prstGeom prst="rect">
            <a:avLst/>
          </a:prstGeom>
          <a:ln w="0">
            <a:noFill/>
          </a:ln>
        </p:spPr>
      </p:pic>
      <p:pic>
        <p:nvPicPr>
          <p:cNvPr id="3091" name="Picture 6" descr=""/>
          <p:cNvPicPr/>
          <p:nvPr/>
        </p:nvPicPr>
        <p:blipFill>
          <a:blip r:embed="rId4"/>
          <a:stretch/>
        </p:blipFill>
        <p:spPr>
          <a:xfrm>
            <a:off x="6181560" y="960480"/>
            <a:ext cx="2563920" cy="1616040"/>
          </a:xfrm>
          <a:prstGeom prst="rect">
            <a:avLst/>
          </a:prstGeom>
          <a:ln w="0">
            <a:noFill/>
          </a:ln>
        </p:spPr>
      </p:pic>
      <p:pic>
        <p:nvPicPr>
          <p:cNvPr id="3092" name="Picture 7" descr=""/>
          <p:cNvPicPr/>
          <p:nvPr/>
        </p:nvPicPr>
        <p:blipFill>
          <a:blip r:embed="rId5"/>
          <a:stretch/>
        </p:blipFill>
        <p:spPr>
          <a:xfrm>
            <a:off x="844560" y="3110040"/>
            <a:ext cx="1811160" cy="1881000"/>
          </a:xfrm>
          <a:prstGeom prst="rect">
            <a:avLst/>
          </a:prstGeom>
          <a:ln w="0">
            <a:noFill/>
          </a:ln>
        </p:spPr>
      </p:pic>
      <p:pic>
        <p:nvPicPr>
          <p:cNvPr id="3093" name="Picture 8" descr=""/>
          <p:cNvPicPr/>
          <p:nvPr/>
        </p:nvPicPr>
        <p:blipFill>
          <a:blip r:embed="rId6"/>
          <a:stretch/>
        </p:blipFill>
        <p:spPr>
          <a:xfrm>
            <a:off x="919080" y="5535720"/>
            <a:ext cx="1662120" cy="1108080"/>
          </a:xfrm>
          <a:prstGeom prst="rect">
            <a:avLst/>
          </a:prstGeom>
          <a:ln w="0">
            <a:noFill/>
          </a:ln>
        </p:spPr>
      </p:pic>
      <p:pic>
        <p:nvPicPr>
          <p:cNvPr id="3094" name="Picture 9" descr=""/>
          <p:cNvPicPr/>
          <p:nvPr/>
        </p:nvPicPr>
        <p:blipFill>
          <a:blip r:embed="rId7"/>
          <a:stretch/>
        </p:blipFill>
        <p:spPr>
          <a:xfrm>
            <a:off x="2981160" y="5494320"/>
            <a:ext cx="181296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3808440" y="744120"/>
            <a:ext cx="51228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Ομαδα: Λουίζα-Ελπίδα Δούναβ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Ορέστης Κουλαχίδ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6" name="Picture 3" descr=""/>
          <p:cNvPicPr/>
          <p:nvPr/>
        </p:nvPicPr>
        <p:blipFill>
          <a:blip r:embed="rId1"/>
          <a:stretch/>
        </p:blipFill>
        <p:spPr>
          <a:xfrm>
            <a:off x="2293920" y="2027160"/>
            <a:ext cx="4556160" cy="4830840"/>
          </a:xfrm>
          <a:prstGeom prst="rect">
            <a:avLst/>
          </a:prstGeom>
          <a:ln w="0">
            <a:noFill/>
          </a:ln>
        </p:spPr>
      </p:pic>
      <p:sp>
        <p:nvSpPr>
          <p:cNvPr id="3097" name="TextBox 4"/>
          <p:cNvSpPr/>
          <p:nvPr/>
        </p:nvSpPr>
        <p:spPr>
          <a:xfrm>
            <a:off x="173160" y="92160"/>
            <a:ext cx="146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l-GR" sz="4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06:24:43Z</dcterms:created>
  <dc:creator>LGA</dc:creator>
  <dc:description/>
  <dc:language>en-US</dc:language>
  <cp:lastModifiedBy>Leonidas Alexopoulos</cp:lastModifiedBy>
  <dcterms:modified xsi:type="dcterms:W3CDTF">2014-11-05T13:03:57Z</dcterms:modified>
  <cp:revision>251</cp:revision>
  <dc:subject/>
  <dc:title>PowerPoint Presentation</dc:title>
</cp:coreProperties>
</file>